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D3C8-7AB3-4919-9CE5-EEAF4D642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BFEA-F8BD-43F7-845A-886A0D16B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0943-788F-4FA8-AA0E-29411D0E6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AFA3-C1D0-4578-B3DD-F387A89E8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E2BA-DB1F-4952-9CDB-0CCE84697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FC85-E239-45C6-8022-55CC0299C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731F-28C9-4C5E-B156-F2E2369D3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187C-2EAF-427C-80F4-57867F211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A2AB-93DE-4EE6-96C5-020A4B56E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BABD-5634-459E-BB1A-16EF2BEC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5641-5DDC-414D-9A6F-809DEE1D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3102-638E-4E63-A7AC-9C61537E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AB29E-9FE7-450B-B4A8-B188744BF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_ Clase 6nh(601)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5 de marzo del 20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42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deportes juegan en la escue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Copia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y respon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deportes son populares en Estados Unid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uáles de los deportes te gust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uáles no te gust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e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n partido de futbo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20, en voz al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¿Comprendes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20 (1-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p. 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457200" y="3382920"/>
            <a:ext cx="822960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area # 4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8T18:26:59Z</dcterms:created>
  <dc:creator>Helen Zumaeta</dc:creator>
  <dc:description/>
  <dc:language>en-US</dc:language>
  <cp:lastModifiedBy>Helen Zumaeta</cp:lastModifiedBy>
  <cp:lastPrinted>2013-03-05T13:29:05Z</cp:lastPrinted>
  <dcterms:modified xsi:type="dcterms:W3CDTF">2013-03-05T14:14:27Z</dcterms:modified>
  <cp:revision>23</cp:revision>
  <dc:subject/>
  <dc:title>Me llamo ______   Clase 7 Im La fecha es el 3 de febrero del 2011</dc:title>
</cp:coreProperties>
</file>